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DE-5F58-41BF-8048-3A0EF3C0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AAA-5DA6-4EE5-BEA3-F31DF465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328-6A7A-4396-B3EA-8884EDDD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2F4-D9BE-439B-89F8-6F00EFAC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B82-D969-470F-8455-2584717B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CEF-C492-4945-9E29-CA6A0DE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95C-E33C-42AD-AC15-BAF27E8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C9F-41FF-4D65-9604-F07E868C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6F6-A6C5-4568-8F1F-419D09E1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14D-66DF-487E-BC67-084F05CF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59B-3DE0-4D93-A7F7-0BD6DF5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1A5-15B8-46B3-9B7F-C3B9DD4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0AAC-65F9-4C1B-8B96-E943F6F8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ykcR3RhyR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gBPAucs-W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hyperlink" Target="http://www.youtube.com/watch?v=NykcR3RhyR4" TargetMode="External"/><Relationship Id="rId3" Type="http://schemas.openxmlformats.org/officeDocument/2006/relationships/hyperlink" Target="http://www.youtube.com/watch?v=XgBPAucs-W4" TargetMode="External"/><Relationship Id="rId4" Type="http://schemas.openxmlformats.org/officeDocument/2006/relationships/hyperlink" Target="http://www.youtube.com/watch?v=XgBPAucs-W4" TargetMode="External"/><Relationship Id="rId5" Type="http://schemas.openxmlformats.org/officeDocument/2006/relationships/hyperlink" Target="http://www.youtube.com/watch?v=XgBPAucs-W4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cd"/>
            </a:gs>
            <a:gs pos="50000">
              <a:srgbClr val="ccff66"/>
            </a:gs>
            <a:gs pos="100000">
              <a:srgbClr val="edf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taxes, subsidies, and pric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983120" y="2924280"/>
            <a:ext cx="122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3213000"/>
            <a:ext cx="129528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outcome of the share of tax burden, the amount of producer/government revenue and the size of the market depends on the PED and P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rstly we will look at what happens when the PED is relatively elastic and the PES is inelast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see that the producer is paying much more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is is because the PED elastic; the firm knows that the consumer is price sensitive; if the price goes too high the consumer will stop buying the produ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y have to bear most of the burden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141300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75160" y="306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836640"/>
            <a:ext cx="1152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262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81800" y="1916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65800" y="375912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57720" y="1501920"/>
            <a:ext cx="1538280" cy="293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40360" y="1158840"/>
            <a:ext cx="12240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206064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30178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139920"/>
            <a:ext cx="0" cy="144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32000" y="2924280"/>
            <a:ext cx="136836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292428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32000" y="3933720"/>
            <a:ext cx="1368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983120" y="2852640"/>
            <a:ext cx="14605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357720"/>
            <a:ext cx="1511280" cy="28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will look at what happens when the PED is relatively inelastic and the PES i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see that the consumer is paying much more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because the PED is inelastic; the firm knows that if the consumer is not sensitive to price; if the price is increased the consumer % demand will not change as much as the % change in pr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bears most of the burden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321300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75480" y="1628640"/>
            <a:ext cx="1152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928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1413000"/>
            <a:ext cx="1584360" cy="2952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9784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2492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965480" y="337824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40240" y="35053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2205000"/>
            <a:ext cx="2089440" cy="20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5640" y="1773360"/>
            <a:ext cx="1800360" cy="1726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2637000"/>
            <a:ext cx="0" cy="720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91160" y="328932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3357720"/>
            <a:ext cx="0" cy="1223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32360" y="2852640"/>
            <a:ext cx="15112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87352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32360" y="3645000"/>
            <a:ext cx="151128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272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= PES the burden of tax will be equal between the consumer and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greater than PES the burden of tax will be greater for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less than PES the burden of tax will be greater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governments like to place taxes on products that have relatively inelastic demand such as alcohol or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 will not reduce in size too much because consumers are price insensitive which protects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ill there will be large tax reven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70920" y="4076640"/>
            <a:ext cx="187308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6659640" y="4292640"/>
            <a:ext cx="4334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877080" y="5229360"/>
            <a:ext cx="4334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573408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4133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5-66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 the answers of the assessment advice (P67), see if you can answer the question and then check you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you can complete 1b from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dies (for a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sidy is given to a firm it’s costs are lowered and therefore it will suppl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subsidies are rare so we concentrate on specific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ply curve shifts to the right as seen in the dia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ifts by the amount of the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reasons  why government gives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wer the price of essential goods to increase consumption (e.g.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uarantee the supply of goods in an industry the government believes is necessary e.g.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producers compete overseas (protection of indus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ee that when the subsidy is given to the firm the price reduces from P1 to P2 which is not the whole 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whole subsidy was given the price would drop to P3 (HL - depending on elasticiti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now look at the effect on producer revenue, consumer expenditure and government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32000" y="3789360"/>
            <a:ext cx="180036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944960" y="2924280"/>
            <a:ext cx="2160720" cy="16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70520" y="3213000"/>
            <a:ext cx="172728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1080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ducer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the subsidy the firm would be making P1Q1 in revenue (blue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ubsidy of WZ is given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 is now making Q2D (yellow plus box) in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has increased by the yellow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d of this section you should be 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a specific tax and a percentag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importance of elasticity in understanding the effect of a specific tax on the demand for, and supply of,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imposition of an indirect tax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granting of a subsidy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, distinguish between, illustrate and give examples of maximum and minimum pric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consequences of price controls on the stakeholders i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Explain the significance of the elasticity of demand and supply in assessing the incidence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indirect (specific) tax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illustrate and calculate how the incidence of tax differs for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subsidi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calculate the effects of minimum and maximum prices from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5400000">
            <a:off x="6350400" y="3831480"/>
            <a:ext cx="1114200" cy="36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3213000"/>
            <a:ext cx="1800360" cy="216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umer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the subsidy consumers could buy Q1 at the price of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now buy Q1 at the price of P2 so they make a saving of P1-P2 x Q1 (pink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they will purchase more units at the lower price of Q2-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expenditure is Q2-Q1 x P2 (purple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xpenditure may increase or fall depending upon relative savings and extra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32360" y="2924280"/>
            <a:ext cx="2160720" cy="50472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vernment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 is the shaded area DWP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ney has to be found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an either take this away from other areas of spending  (building infrastructure, providing public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must raise taxes (unpopular with vo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could borrow money and increase deb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ion of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e of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portunity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ubsidy allow firms to b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effici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free market they might have to be more efficient to compete (on pr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subsidy allows consumers to pay a lower price they may also be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xpay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funding the subsi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can lead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ver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great deal of international debate about subsidies given to farmers in high income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overproduction and i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maging to farmers in developing cou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cannot comp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income countries are accused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um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ir products in developing countries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87960" y="1946160"/>
            <a:ext cx="3022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70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8-69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ly one if you are 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2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ic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the mjmfoodie vide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gBPAucs-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rcRect l="8060" t="27314" r="34649" b="15981"/>
          <a:stretch/>
        </p:blipFill>
        <p:spPr>
          <a:xfrm>
            <a:off x="1258920" y="2536920"/>
            <a:ext cx="69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70-74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s out the assessment advice on P72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e extra if you are H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3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Data Response Question on P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79640" y="264492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jm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floors and ce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XgBPAucs-W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rect tax is a tax on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taxes the firm which increases its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pply curve shifts vertically by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product is supplied at every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types of indirect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agram illustrates a specific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hift is vertically upward of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would be the tax on a packet of cigaret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83080" y="1484280"/>
            <a:ext cx="4353120" cy="5080680"/>
            <a:chOff x="4483080" y="1484280"/>
            <a:chExt cx="4353120" cy="5080680"/>
          </a:xfrm>
        </p:grpSpPr>
        <p:sp>
          <p:nvSpPr>
            <p:cNvPr id="48" name=""/>
            <p:cNvSpPr/>
            <p:nvPr/>
          </p:nvSpPr>
          <p:spPr>
            <a:xfrm>
              <a:off x="4491000" y="328788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5373720"/>
              <a:ext cx="2664000" cy="1191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– a fixed amount of tax that is imposed on a product e.g. $1 per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48200" y="1700280"/>
              <a:ext cx="0" cy="28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48200" y="4591080"/>
              <a:ext cx="345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120" y="4594320"/>
              <a:ext cx="10843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uant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24600" y="1781280"/>
              <a:ext cx="2409840" cy="20430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6720" y="1484280"/>
              <a:ext cx="8539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 + 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2560" y="4581360"/>
              <a:ext cx="596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92640" y="2236680"/>
              <a:ext cx="3186360" cy="20304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90080" y="4181400"/>
              <a:ext cx="5461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32360" y="3462480"/>
              <a:ext cx="1749600" cy="612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3080" y="3429000"/>
              <a:ext cx="0" cy="1152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59640" y="4589640"/>
              <a:ext cx="604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0400" y="3213000"/>
              <a:ext cx="22320" cy="1368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057720" y="2308320"/>
              <a:ext cx="2409480" cy="20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659640" y="3454560"/>
              <a:ext cx="433440" cy="144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072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24720" y="2332080"/>
              <a:ext cx="854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965480" y="3213000"/>
              <a:ext cx="1749240" cy="648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3080" y="303516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centage tax increases as the selling price increases as shown in th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VAT in the UK (currently 2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5272200"/>
            <a:ext cx="30956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centage tax (Ad Valore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tax is the percentage of the selling price.  As the price rises the tax wi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41880" y="1506600"/>
            <a:ext cx="1643040" cy="2411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720" y="12682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36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3141720"/>
            <a:ext cx="0" cy="14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180180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962240" y="3135240"/>
            <a:ext cx="16254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997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60760"/>
            <a:ext cx="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2640" y="3789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use the specific tax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tax the firm’s revenue is Q1xP1 (the blue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ax of XY is charged the firm would like to pass it all onto the consumer by raising the price to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at price we can see there is an excess of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falls to a new equilibrium at 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932360" y="2924280"/>
            <a:ext cx="216072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292428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is now P3 and has increased from 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sumer is paying a higher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ee that the tax burden is roughly shared about ½ and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den of the t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o pays th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8440" y="3487680"/>
            <a:ext cx="1728720" cy="28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30640"/>
            <a:ext cx="1729080" cy="19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5229360"/>
            <a:ext cx="2448000" cy="57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021360"/>
            <a:ext cx="244800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er is now only receiving C p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’s revenue was Q1P1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m’s revenue has decre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Q3C (yellow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44960" y="3789360"/>
            <a:ext cx="1800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83120" y="3213000"/>
            <a:ext cx="1727280" cy="55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ins tax reven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Y x Q3 (quantity x tax (purple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ket falls in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Q1 to Q3 which could mean unemployment in that in that industry (derived demand for lab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7777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3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 P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’s 1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a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a and b if you are HL (after the next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79640" y="26798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Rom</cp:lastModifiedBy>
  <dcterms:modified xsi:type="dcterms:W3CDTF">2011-07-28T08:12:20Z</dcterms:modified>
  <cp:revision>20</cp:revision>
  <dc:subject/>
  <dc:title>Elasticities</dc:title>
</cp:coreProperties>
</file>